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4.jpeg" ContentType="image/jpeg"/>
  <Override PartName="/ppt/media/image4.jpeg" ContentType="image/jpeg"/>
  <Override PartName="/ppt/media/image2.png" ContentType="image/png"/>
  <Override PartName="/ppt/media/image1.png" ContentType="image/png"/>
  <Override PartName="/ppt/media/image3.png" ContentType="image/png"/>
  <Override PartName="/ppt/media/image7.jpeg" ContentType="image/jpeg"/>
  <Override PartName="/ppt/media/image11.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D57A6-0950-4319-A435-0A40F589C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32018-D235-4374-869E-EB6BC6A2A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B0585-C56D-4983-B21F-86E1A575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0C8AF-B483-4645-9E44-F7F2D1946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58802-5585-4188-AF81-EB64C9BDC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E08B6-9776-4E7A-851F-22AB5D2C2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1DF3A-16C4-4912-A1E3-717D11AB8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24D56-C792-4672-B457-AAB8763599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69EC3-2B3E-4791-AF90-2EDA2CDA15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A647C-15A9-4D12-8863-3BA8A81B37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69B87-90AB-43F4-BB58-9342ECC163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A82A3-83A9-4087-9DC1-9A506A76F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5C739-CA7D-4FB0-BDB2-673ABF6AC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ED182-426F-4B3B-B01D-81A3A3336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00C04-AB99-4D6E-A6CD-770CD19C5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54FF4C-ED8E-4525-9177-A6807035C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BF384E-CAF1-4373-A34C-B10BB007D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37C62-8741-4B35-AF4E-82AFFD11F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DA7C-D144-42CD-A52B-57A1065DA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A74BB-01DB-4A8D-B6BB-BEF84ACA2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A8E50-47DB-4EF6-9D79-6A77A5FA8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A11C1-3EAE-4AF2-BF4A-7D9F427FF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34389-2589-404A-9CAA-AF8B7B4B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5FA03-27D1-4C67-84E2-FDF9C4BBE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BE252-E992-44D6-BB21-ABE8555C8DB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C773-377D-495F-9073-CEDBC087DA2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www.dnatube.com/" TargetMode="External"/><Relationship Id="rId2" Type="http://schemas.openxmlformats.org/officeDocument/2006/relationships/hyperlink" Target="http://www.dnatube.com/" TargetMode="External"/><Relationship Id="rId3" Type="http://schemas.openxmlformats.org/officeDocument/2006/relationships/hyperlink" Target="http://www.dnatube.com/" TargetMode="External"/><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kibrisgazetesi.com/" TargetMode="External"/><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http://scholar.google.com/" TargetMode="External"/><Relationship Id="rId2" Type="http://schemas.openxmlformats.org/officeDocument/2006/relationships/hyperlink" Target="http://scholar.google.com/" TargetMode="External"/><Relationship Id="rId3" Type="http://schemas.openxmlformats.org/officeDocument/2006/relationships/hyperlink" Target="http://scholar.google.com/" TargetMode="External"/><Relationship Id="rId4" Type="http://schemas.openxmlformats.org/officeDocument/2006/relationships/hyperlink" Target="http://scholar.google.com/" TargetMode="External"/><Relationship Id="rId5" Type="http://schemas.openxmlformats.org/officeDocument/2006/relationships/hyperlink" Target="http://scholar.google.com/" TargetMode="External"/><Relationship Id="rId6" Type="http://schemas.openxmlformats.org/officeDocument/2006/relationships/image" Target="../media/image17.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Eğitimde İnternet</a:t>
            </a:r>
            <a:br>
              <a:rPr sz="5400"/>
            </a:br>
            <a:r>
              <a:rPr b="0" lang="en-US" sz="5400" spc="-1" strike="noStrike">
                <a:solidFill>
                  <a:srgbClr val="ffffcc"/>
                </a:solidFill>
                <a:latin typeface="Tahoma"/>
              </a:rPr>
              <a:t>TEMEL KAVRAMLAR</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Uz. Fezile ÖZDAMLI</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http://com102.wikispaces.c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Kablo internet</a:t>
            </a:r>
            <a:br>
              <a:rPr sz="4000"/>
            </a:br>
            <a:endParaRPr b="0" lang="en-US" sz="4000" spc="-1" strike="noStrike">
              <a:solidFill>
                <a:srgbClr val="ffffcc"/>
              </a:solidFill>
              <a:latin typeface="Tahoma"/>
            </a:endParaRPr>
          </a:p>
        </p:txBody>
      </p:sp>
      <p:sp>
        <p:nvSpPr>
          <p:cNvPr id="40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ablo ise TV şebekesi üzerinden bilgisayarınıza bağlanacak bir kablo modem yoluyla herhangi bir internet servis sağlayıcısına ve telefon hattına ihtiyaç duymaksızın internete bağlanmanızı sağlayan bir sistemdir.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cak KKTC’de bu sistem henüz kurulmamışt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Wireless Nedir</a:t>
            </a:r>
            <a:br>
              <a:rPr sz="4000"/>
            </a:br>
            <a:endParaRPr b="0" lang="en-US" sz="4000" spc="-1" strike="noStrike">
              <a:solidFill>
                <a:srgbClr val="ffffcc"/>
              </a:solidFill>
              <a:latin typeface="Tahoma"/>
            </a:endParaRPr>
          </a:p>
        </p:txBody>
      </p:sp>
      <p:sp>
        <p:nvSpPr>
          <p:cNvPr id="405" name="PlaceHolder 2"/>
          <p:cNvSpPr>
            <a:spLocks noGrp="1"/>
          </p:cNvSpPr>
          <p:nvPr>
            <p:ph/>
          </p:nvPr>
        </p:nvSpPr>
        <p:spPr>
          <a:xfrm>
            <a:off x="250920" y="83628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reless Internet, kablosuz uydu sistemiyle yüksek hızda internet sağlayan sorunsuz bir servistir. KKTC’ye ADSL’den çok önce girmiş bulunan sistem zaman içerisinde piyasada yaygınlaşmıştır.</a:t>
            </a:r>
            <a:endParaRPr b="0" lang="en-US" sz="3200" spc="-1" strike="noStrike">
              <a:solidFill>
                <a:srgbClr val="ffffff"/>
              </a:solidFill>
              <a:latin typeface="Tahoma"/>
            </a:endParaRPr>
          </a:p>
        </p:txBody>
      </p:sp>
      <p:pic>
        <p:nvPicPr>
          <p:cNvPr id="406" name="" descr=""/>
          <p:cNvPicPr/>
          <p:nvPr/>
        </p:nvPicPr>
        <p:blipFill>
          <a:blip r:embed="rId1"/>
          <a:stretch/>
        </p:blipFill>
        <p:spPr>
          <a:xfrm>
            <a:off x="3419640" y="3305160"/>
            <a:ext cx="4032000" cy="34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01680" y="1268280"/>
            <a:ext cx="8540640" cy="5329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 ya da taşınabilir kişisel bilgisayarlar olarak sınıflandırılan bu bilgisayarlar Laptop, NoteBook gibi isimler alır.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 donanım ve yazılım olarak PC’nin sahip olduğu bütün öğelere sahip olabilir. </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yrıca enerji kaynağı olarak şarj edilebilir pil bataryaları kullanılmaktadırlar. Genel olarak 2–4 saat arası enerji desteği sağlarlar.</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izüstü bilgisayarları wireless, Bluetooth, kızılötesi gibi teknolojilerle kullanarak zamandan ve yerden bağımsız olarak Açık öğretim e-öğrenme portalındaki e-kitap, e-alıştırma, e-danışmanlık, e-destek, e-sınav, e-televizyon, e-SesliKitap hizmetlerinin hepsinden sorunsuz yararlanılır.</a:t>
            </a:r>
            <a:endParaRPr b="0" lang="en-US" sz="2400" spc="-1" strike="noStrike">
              <a:solidFill>
                <a:srgbClr val="ffffff"/>
              </a:solidFill>
              <a:latin typeface="Tahoma"/>
            </a:endParaRPr>
          </a:p>
          <a:p>
            <a:pPr marL="332640" indent="-3326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öylelikle bireyler dizüstü bilgisayarlarını kullanarak wireless bulunan bölgeden bilgiye kolaylıkla erişebilirler.</a:t>
            </a:r>
            <a:endParaRPr b="0" lang="en-US" sz="2400" spc="-1" strike="noStrike">
              <a:solidFill>
                <a:srgbClr val="ffffff"/>
              </a:solidFill>
              <a:latin typeface="Tahoma"/>
            </a:endParaRPr>
          </a:p>
        </p:txBody>
      </p:sp>
      <p:sp>
        <p:nvSpPr>
          <p:cNvPr id="408"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Dizüstü Bilgisayarlar (Notebook)</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Cep Bilgisayarları (Pocket PC)</a:t>
            </a:r>
            <a:br>
              <a:rPr sz="4000"/>
            </a:br>
            <a:endParaRPr b="0" lang="en-US" sz="4000" spc="-1" strike="noStrike">
              <a:solidFill>
                <a:srgbClr val="ffffcc"/>
              </a:solidFill>
              <a:latin typeface="Tahoma"/>
            </a:endParaRPr>
          </a:p>
        </p:txBody>
      </p:sp>
      <p:sp>
        <p:nvSpPr>
          <p:cNvPr id="4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Telefonlu cep bilgisayarları ile takvim özelliklerini kullanabilir, cep bilgisayarları için tasarlanmış Word, Excel vb. birçok programda işlemlerinizi gerçekleştirebilirsiniz.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Televizyon ve e-sesliKitap dosyaları telefonlu cep bilgisayarlarına aktarılabilir. Böylece istenildiği zaman, istenilen yerden televizyon programlarını izleneyebilir, sesli kitaplar dinleyebilirsiniz.</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cc"/>
                </a:solidFill>
                <a:latin typeface="Tahoma"/>
              </a:rPr>
              <a:t>Taşınabilir Medya Oynatıcılar (Portable Media Center )</a:t>
            </a:r>
            <a:endParaRPr b="0" lang="en-US" sz="4000" spc="-1" strike="noStrike">
              <a:solidFill>
                <a:srgbClr val="ffffcc"/>
              </a:solidFill>
              <a:latin typeface="Tahoma"/>
            </a:endParaRPr>
          </a:p>
        </p:txBody>
      </p:sp>
      <p:sp>
        <p:nvSpPr>
          <p:cNvPr id="412" name="PlaceHolder 2"/>
          <p:cNvSpPr>
            <a:spLocks noGrp="1"/>
          </p:cNvSpPr>
          <p:nvPr>
            <p:ph/>
          </p:nvPr>
        </p:nvSpPr>
        <p:spPr>
          <a:xfrm>
            <a:off x="301680" y="1600200"/>
            <a:ext cx="8540640" cy="32688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Microsoft Windows Media Center Edition, Mac iPod işletim sistemi kullanan bu makineler bazı programlar aracılığı ile .wav dosyalarını mp3 formatına, mp3 formatındaki dosyalarıda .wav formatına dönüştürülebilme özelliğine sahiptirler. </a:t>
            </a:r>
            <a:endParaRPr b="0" lang="en-US" sz="3200" spc="-1" strike="noStrike">
              <a:solidFill>
                <a:srgbClr val="ffffff"/>
              </a:solidFill>
              <a:latin typeface="Tahoma"/>
            </a:endParaRPr>
          </a:p>
        </p:txBody>
      </p:sp>
      <p:pic>
        <p:nvPicPr>
          <p:cNvPr id="413" name="" descr=""/>
          <p:cNvPicPr/>
          <p:nvPr/>
        </p:nvPicPr>
        <p:blipFill>
          <a:blip r:embed="rId1"/>
          <a:stretch/>
        </p:blipFill>
        <p:spPr>
          <a:xfrm>
            <a:off x="3564000" y="5129280"/>
            <a:ext cx="208764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Akıllı Telefonlar</a:t>
            </a:r>
            <a:br>
              <a:rPr sz="4000"/>
            </a:br>
            <a:endParaRPr b="0" lang="en-US" sz="4000" spc="-1" strike="noStrike">
              <a:solidFill>
                <a:srgbClr val="ffffcc"/>
              </a:solidFill>
              <a:latin typeface="Tahoma"/>
            </a:endParaRPr>
          </a:p>
        </p:txBody>
      </p:sp>
      <p:sp>
        <p:nvSpPr>
          <p:cNvPr id="415" name="PlaceHolder 2"/>
          <p:cNvSpPr>
            <a:spLocks noGrp="1"/>
          </p:cNvSpPr>
          <p:nvPr>
            <p:ph/>
          </p:nvPr>
        </p:nvSpPr>
        <p:spPr>
          <a:xfrm>
            <a:off x="301680" y="134100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kıllı telefonlar MP3, WMA, WMV, JPG formatlarını oynatma özelliklerine sahiptirler. WAP, GPRS gibi online erişim olanağı sağlamaktadırlar. Bunun yanında Akıllı Telefonlar e-Televizyon ve e-Sesli kitap dosyaları aygıta aktarılarak, herhangi bir ortamda da seyredilebilir/dinlenebilir. </a:t>
            </a:r>
            <a:endParaRPr b="0" lang="en-US" sz="3200" spc="-1" strike="noStrike">
              <a:solidFill>
                <a:srgbClr val="ffffff"/>
              </a:solidFill>
              <a:latin typeface="Tahoma"/>
            </a:endParaRPr>
          </a:p>
        </p:txBody>
      </p:sp>
      <p:pic>
        <p:nvPicPr>
          <p:cNvPr id="416" name="" descr=""/>
          <p:cNvPicPr/>
          <p:nvPr/>
        </p:nvPicPr>
        <p:blipFill>
          <a:blip r:embed="rId1"/>
          <a:stretch/>
        </p:blipFill>
        <p:spPr>
          <a:xfrm>
            <a:off x="3276720" y="5013360"/>
            <a:ext cx="2447640" cy="16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Elektronik Posta (e-posta)</a:t>
            </a:r>
            <a:br>
              <a:rPr sz="4000"/>
            </a:br>
            <a:endParaRPr b="0" lang="en-US" sz="4000" spc="-1" strike="noStrike">
              <a:solidFill>
                <a:srgbClr val="ffffcc"/>
              </a:solidFill>
              <a:latin typeface="Tahoma"/>
            </a:endParaRPr>
          </a:p>
        </p:txBody>
      </p:sp>
      <p:sp>
        <p:nvSpPr>
          <p:cNvPr id="418" name="PlaceHolder 2"/>
          <p:cNvSpPr>
            <a:spLocks noGrp="1"/>
          </p:cNvSpPr>
          <p:nvPr>
            <p:ph/>
          </p:nvPr>
        </p:nvSpPr>
        <p:spPr>
          <a:xfrm>
            <a:off x="301680" y="1196640"/>
            <a:ext cx="8540640" cy="49021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gisayar ağlarının oluşturulma nedenlerinden biri, kişilerin, bir yerden diğerine (hızlı ve güvenli bir şekilde) elektronik ortamda mektup gönderme ve haberleşme isteğidir.</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posta (electronic mail) bu amaçla kullanılan servislere verilen genel bir isimdi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posta, başlangıçta sadece düz yazı mesajlar göndermek amacıyla geliştirilmişken, 1995'li yıllardan sonra geliştirilen tekniklerle, resim, ses, video, html dokümanları, çalışabilir program vb. kullanımı mümkün hale gelmişt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3851280" y="2924280"/>
            <a:ext cx="5078520" cy="3730680"/>
          </a:xfrm>
          <a:prstGeom prst="rect">
            <a:avLst/>
          </a:prstGeom>
          <a:ln w="0">
            <a:noFill/>
          </a:ln>
        </p:spPr>
      </p:pic>
      <p:sp>
        <p:nvSpPr>
          <p:cNvPr id="420" name=""/>
          <p:cNvSpPr/>
          <p:nvPr/>
        </p:nvSpPr>
        <p:spPr>
          <a:xfrm>
            <a:off x="611280" y="549360"/>
            <a:ext cx="7561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rek dünyada gerekse ülkemizde pek çok insan artık e-posta aracılığıyla haberleşmektedir.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Özellikle üniversitelerde, diğer kamu ve özel sektör kurumlarına ulaşılmak istendiğinde e-posta yoluyla çok kısa sürede ve güvenli bir şekilde ulaşmak mümkündü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Haber grupları</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Haber grupları insanların belirli konuları tartışmaları, fikir alış verişinde bulunmaları, bildiklerini diğer insanlara aktarmaları ve iletişim kurmaları için bir haber sunucusu içinde oluşturulmuş gruplardır. </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u iletişim, konularına göre haber sunucusu içinde önceden oluşturulmuş gruplar içerisinde kurulur. Örneğin internet ile ilgili konular "internet" grubu içerisinde yapılırken siyaset ile ilgili konular "siyaset" grubu içerisinde yapılır. </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Grupların ismini taşıyan konunun dallarına göre bir grubun alt grupları olabilir. Mesela "donanım" genel bir grup iken "donanım.anakart" sadece ana kart hakkındaki tartışma ve iletişime açık bir gruptu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324000" y="1196640"/>
            <a:ext cx="3960720" cy="51116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ber grupları eğitimde çok önemli bir yere sahiptir. Gerek öğretmenlerin gerekse öğrencilerin istedikleri alanlarda fikir alış verişinde bulunmalarına rahat bir şekilde olanak sağlayan haber grupları, günümüzde de popülaritesini korumaktadır.</a:t>
            </a:r>
            <a:endParaRPr b="0" lang="en-US" sz="2800" spc="-1" strike="noStrike">
              <a:solidFill>
                <a:srgbClr val="ffffff"/>
              </a:solidFill>
              <a:latin typeface="Tahoma"/>
            </a:endParaRPr>
          </a:p>
        </p:txBody>
      </p:sp>
      <p:pic>
        <p:nvPicPr>
          <p:cNvPr id="424" name="" descr=""/>
          <p:cNvPicPr/>
          <p:nvPr/>
        </p:nvPicPr>
        <p:blipFill>
          <a:blip r:embed="rId1"/>
          <a:stretch/>
        </p:blipFill>
        <p:spPr>
          <a:xfrm>
            <a:off x="4788000" y="1341360"/>
            <a:ext cx="4011480" cy="410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Nedir?</a:t>
            </a:r>
            <a:br>
              <a:rPr sz="4000"/>
            </a:br>
            <a:endParaRPr b="0" lang="en-US" sz="40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İnternet, milyonlarca bilgisayarı birbirine bağlayarak iş dünyası, devlet kuruluşları ve eğitim kuruluşları arasında dünya çapında iletişim yapma olanağı sağlayan uluslararası bir bilgisayar ağıdır.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eferoğlu (2006) hiçbir organizasyonun internetin sahibi olmadığını ve interneti kontrol etmediğini açıklamaktadır. Bu yapının parçaları ağlar, devlet kuruluşları, üniversiteler, gönüllü organizasyonlar ve ticari kuruluşlardı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ffffcc"/>
                </a:solidFill>
                <a:latin typeface="Tahoma"/>
              </a:rPr>
              <a:t>Sohbet Odaları (Internet Relay Chat, IRC) </a:t>
            </a:r>
            <a:endParaRPr b="0" lang="en-US" sz="4000" spc="-1" strike="noStrike">
              <a:solidFill>
                <a:srgbClr val="ffffcc"/>
              </a:solidFill>
              <a:latin typeface="Tahoma"/>
            </a:endParaRPr>
          </a:p>
        </p:txBody>
      </p:sp>
      <p:sp>
        <p:nvSpPr>
          <p:cNvPr id="4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RC, (Internet Relay Chat - Internet Aktarımlı Sohbet) dünyanın her yerinden insanların katılıp sohbet ettiği sanal bir buluşma ortamıdı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RC serverlerine bağlanmak için en çok tercih edilen IRC programı mIRC’dir. </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Bütün serverler birbirine bağlıdır ve mesajlar bir kullanıcıdan diğerine IRC networkünde ulaştırılı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p:nvPr>
        </p:nvSpPr>
        <p:spPr>
          <a:xfrm>
            <a:off x="250920" y="54900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Öğretmen-öğretmen, öğretmen-öğrenci, öğrenci-öğrenci şeklinde eş zamanlı iletişim kurulabili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28" name="" descr=""/>
          <p:cNvPicPr/>
          <p:nvPr/>
        </p:nvPicPr>
        <p:blipFill>
          <a:blip r:embed="rId1"/>
          <a:stretch/>
        </p:blipFill>
        <p:spPr>
          <a:xfrm>
            <a:off x="1763640" y="2205000"/>
            <a:ext cx="5400720" cy="4229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Dosya Aktarımı (File Transfer Protocol, FTP)</a:t>
            </a:r>
            <a:br>
              <a:rPr sz="4000"/>
            </a:br>
            <a:endParaRPr b="0" lang="en-US" sz="4000" spc="-1" strike="noStrike">
              <a:solidFill>
                <a:srgbClr val="ffffcc"/>
              </a:solidFill>
              <a:latin typeface="Tahoma"/>
            </a:endParaRPr>
          </a:p>
        </p:txBody>
      </p:sp>
      <p:sp>
        <p:nvSpPr>
          <p:cNvPr id="4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TP, "File Transfer Protocol" (Dosya Transferi Protokolü) kelimelerinin baş harflerinden oluşan bir kısaltmadır. FTP, internete bağlı iki bilgisayar arasında dosya aktarımı yapmak için geliştirilen bir internet protokolüdür.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FTP kullanarak bireyler özellikle üniversite gibi kurumların dosya arşivlerine erişerek, ftp serverlerinden dosya alışverişinde bulunabilirler. Böylelikle pek çok program kolay bir şekilde elde edilebil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1" name="" descr=""/>
          <p:cNvPicPr/>
          <p:nvPr/>
        </p:nvPicPr>
        <p:blipFill>
          <a:blip r:embed="rId1"/>
          <a:stretch/>
        </p:blipFill>
        <p:spPr>
          <a:xfrm>
            <a:off x="755640" y="404640"/>
            <a:ext cx="7705800" cy="5855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cc"/>
                </a:solidFill>
                <a:latin typeface="Tahoma"/>
              </a:rPr>
              <a:t>Wiki Nedir?</a:t>
            </a:r>
            <a:br>
              <a:rPr sz="4000"/>
            </a:br>
            <a:endParaRPr b="0" lang="en-US" sz="40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ki, kullanıcılara web tarayıcıları ile web sayfası içeriği yaratmaya izin veren bir sunucud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Wiki sayfaları Wiki topluluğu olarak adlandırılan birçok kullanıcı tarafından oluşturulmaktadır.</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p:nvPr>
        </p:nvSpPr>
        <p:spPr>
          <a:xfrm>
            <a:off x="250920" y="33300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Ziyaretçiler blog sayfalarındaki içeriği değiştiremezler ancak yorumda bulunabilirler. </a:t>
            </a:r>
            <a:endParaRPr b="0" lang="en-US" sz="2000" spc="-1" strike="noStrike">
              <a:solidFill>
                <a:srgbClr val="ffffff"/>
              </a:solidFill>
              <a:latin typeface="Tahoma"/>
            </a:endParaRPr>
          </a:p>
          <a:p>
            <a:pPr marL="343080" indent="-343080">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Tahoma"/>
              </a:rPr>
              <a:t>Wiki sayfalarında ise içerikler düzenleme ya da değiştir seçeneği ile diğer kullanıcılar tarafından değiştirilebilir, düzenleme ve ilaveler yapılarak daha da geliştirilebilirler</a:t>
            </a:r>
            <a:endParaRPr b="0" lang="en-US" sz="2000" spc="-1" strike="noStrike">
              <a:solidFill>
                <a:srgbClr val="ffffff"/>
              </a:solidFill>
              <a:latin typeface="Tahoma"/>
            </a:endParaRPr>
          </a:p>
        </p:txBody>
      </p:sp>
      <p:pic>
        <p:nvPicPr>
          <p:cNvPr id="435" name="" descr=""/>
          <p:cNvPicPr/>
          <p:nvPr/>
        </p:nvPicPr>
        <p:blipFill>
          <a:blip r:embed="rId1"/>
          <a:stretch/>
        </p:blipFill>
        <p:spPr>
          <a:xfrm>
            <a:off x="1476360" y="2205000"/>
            <a:ext cx="5904000" cy="4197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cc"/>
                </a:solidFill>
                <a:latin typeface="Tahoma"/>
              </a:rPr>
              <a:t>Teachertube</a:t>
            </a:r>
            <a:r>
              <a:rPr b="0" lang="tr-TR" sz="4400" spc="-1" strike="noStrike">
                <a:solidFill>
                  <a:srgbClr val="ffffcc"/>
                </a:solidFill>
                <a:latin typeface="Tahoma"/>
              </a:rPr>
              <a:t> </a:t>
            </a:r>
            <a:endParaRPr b="0" lang="en-US" sz="44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Teachertube’un amacı öğretmenlerin eğitsel videoları paylaşacakları bir platform oluşturmaktı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Siteye eklenmiş olan video dosyası, video projeksiyon ve PC/laptop ile öğretmenin sınıfda kullanabilmesine olanak sağlamaktadı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Böylece öğrenci katılamadığı dersleri daha sonra evinde kendisi tekrar tekrar inceleyebilir.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En önemli yararlarından biri de sınıfa getirilmesi zor ve tehlikeli deneyleri, hazırlanması zaman alan çalışmaları hem hızla hem de güvenli bir şekilde gösterilebilir.</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Ayrıca DNATube’de bilimsel içerikli videolar da verilmektedir </a:t>
            </a:r>
            <a:r>
              <a:rPr b="0" lang="tr-TR" sz="2400" spc="-1" strike="noStrike" u="sng">
                <a:solidFill>
                  <a:srgbClr val="a3c145"/>
                </a:solidFill>
                <a:uFillTx/>
                <a:latin typeface="Tahoma"/>
                <a:hlinkClick r:id="rId1"/>
              </a:rPr>
              <a:t>http://www.</a:t>
            </a:r>
            <a:r>
              <a:rPr b="0" lang="tr-TR" sz="2400" spc="-1" strike="noStrike" u="sng">
                <a:solidFill>
                  <a:srgbClr val="a3c145"/>
                </a:solidFill>
                <a:uFillTx/>
                <a:latin typeface="Tahoma"/>
                <a:hlinkClick r:id="rId2"/>
              </a:rPr>
              <a:t>dnatube</a:t>
            </a:r>
            <a:r>
              <a:rPr b="0" lang="tr-TR" sz="2400" spc="-1" strike="noStrike" u="sng">
                <a:solidFill>
                  <a:srgbClr val="a3c145"/>
                </a:solidFill>
                <a:uFillTx/>
                <a:latin typeface="Tahoma"/>
                <a:hlinkClick r:id="rId3"/>
              </a:rPr>
              <a:t>.com/</a:t>
            </a:r>
            <a:r>
              <a:rPr b="0" lang="tr-TR"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38" name="" descr=""/>
          <p:cNvPicPr/>
          <p:nvPr/>
        </p:nvPicPr>
        <p:blipFill>
          <a:blip r:embed="rId1"/>
          <a:stretch/>
        </p:blipFill>
        <p:spPr>
          <a:xfrm>
            <a:off x="0" y="0"/>
            <a:ext cx="9396360" cy="7389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Screencast </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Görüntü sunumu (screencast) bir nevi işlemleri yaparken ekranı kaydedip, çoğunlukla neler yapıldığının sesli biçimde anlatılmasıdı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creencast eğitimde gerek öğrenci açısından gerekse öğretmen açısından çok önemli bir yere sahipti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Screencast yapabilmek için öncelikle ekran kayıt yapabilen bir programa ihtiyaç vardır.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Easy Video Capture ve Microsoft Capitative bunlara iyi bir örnekt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Podcast (Podcasting) </a:t>
            </a:r>
            <a:endParaRPr b="0" lang="en-US" sz="4400" spc="-1" strike="noStrike">
              <a:solidFill>
                <a:srgbClr val="ffffcc"/>
              </a:solidFill>
              <a:latin typeface="Tahoma"/>
            </a:endParaRPr>
          </a:p>
        </p:txBody>
      </p:sp>
      <p:sp>
        <p:nvSpPr>
          <p:cNvPr id="4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Podcast yeni bir yayın dağıtım sistemidir. Podcast sayesinde takip etmek istenilen radyo programları internetten abone olarak istenilen zaman, istenilen cihazda dinlenebilir. </a:t>
            </a:r>
            <a:endParaRPr b="0" lang="en-US" sz="3200" spc="-1" strike="noStrike">
              <a:solidFill>
                <a:srgbClr val="ffffff"/>
              </a:solidFill>
              <a:latin typeface="Tahoma"/>
            </a:endParaRPr>
          </a:p>
        </p:txBody>
      </p:sp>
      <p:pic>
        <p:nvPicPr>
          <p:cNvPr id="443" name="" descr=""/>
          <p:cNvPicPr/>
          <p:nvPr/>
        </p:nvPicPr>
        <p:blipFill>
          <a:blip r:embed="rId1"/>
          <a:stretch/>
        </p:blipFill>
        <p:spPr>
          <a:xfrm>
            <a:off x="3635280" y="407664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Nasıl Ortaya Çıktı?</a:t>
            </a:r>
            <a:br>
              <a:rPr sz="4000"/>
            </a:br>
            <a:endParaRPr b="0" lang="en-US" sz="4000" spc="-1" strike="noStrike">
              <a:solidFill>
                <a:srgbClr val="ffffcc"/>
              </a:solidFill>
              <a:latin typeface="Tahoma"/>
            </a:endParaRPr>
          </a:p>
        </p:txBody>
      </p:sp>
      <p:sp>
        <p:nvSpPr>
          <p:cNvPr id="389" name="PlaceHolder 2"/>
          <p:cNvSpPr>
            <a:spLocks noGrp="1"/>
          </p:cNvSpPr>
          <p:nvPr>
            <p:ph/>
          </p:nvPr>
        </p:nvSpPr>
        <p:spPr>
          <a:xfrm>
            <a:off x="250920" y="1196640"/>
            <a:ext cx="8540640" cy="5257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İnternet, ilk olarak 1960’lı yılların sonunda Amerika Birleşik Devletleri’nde bulunan DARPA’ya (Defence Advanced Research Project Agency - Savunma İleri Düzey Araştırma Projeleri Kurumu) ait farklı yerlerdeki bilgisayar sistemlerini birbirine bağlamak amacıyla kurulmuş bir bilgisayar ağıdır. </a:t>
            </a:r>
            <a:endParaRPr b="0" lang="en-US" sz="2400" spc="-1" strike="noStrike">
              <a:solidFill>
                <a:srgbClr val="ffffff"/>
              </a:solidFill>
              <a:latin typeface="Tahom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Daha sonra bu ağa çeşitli üniversite ve araştırma kurumlarının bağlanması ile ağ genişlemiş ve 'İnternet' adı altında dünyayı saran bir ağ konumuna gelmiştir. </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KKTC’de 1995 yılında Comtech firmasının yapmış olduğu yatırımlar sonucu Kuzey Kıbrıs halkının internet ile tanışması kısmen başlamıştır. Tabi ki zaman içerisinde Comtech firmasına ek olarak pek çok İnternet Servis Sağlayıcısı piyasaya girerek bu pazarda internetin yayılmasında büyük bir rol oynamıştır.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Forum</a:t>
            </a:r>
            <a:br>
              <a:rPr sz="4000"/>
            </a:br>
            <a:endParaRPr b="0" lang="en-US" sz="4000" spc="-1" strike="noStrike">
              <a:solidFill>
                <a:srgbClr val="ffffcc"/>
              </a:solidFill>
              <a:latin typeface="Tahoma"/>
            </a:endParaRPr>
          </a:p>
        </p:txBody>
      </p:sp>
      <p:sp>
        <p:nvSpPr>
          <p:cNvPr id="445" name="PlaceHolder 2"/>
          <p:cNvSpPr>
            <a:spLocks noGrp="1"/>
          </p:cNvSpPr>
          <p:nvPr>
            <p:ph/>
          </p:nvPr>
        </p:nvSpPr>
        <p:spPr>
          <a:xfrm>
            <a:off x="0" y="765000"/>
            <a:ext cx="8540640" cy="44992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tabanlı forumlar haber gruplarına benzer olarak belirli bir konuda diğer üyelerle elektronik bilgi paylaşımı ve yazılı tartışma yaratmak için oluşturulmuş sistemlerdir. </a:t>
            </a:r>
            <a:endParaRPr b="0" lang="en-US" sz="3200" spc="-1" strike="noStrike">
              <a:solidFill>
                <a:srgbClr val="ffffff"/>
              </a:solidFill>
              <a:latin typeface="Tahoma"/>
            </a:endParaRPr>
          </a:p>
        </p:txBody>
      </p:sp>
      <p:pic>
        <p:nvPicPr>
          <p:cNvPr id="446" name="" descr=""/>
          <p:cNvPicPr/>
          <p:nvPr/>
        </p:nvPicPr>
        <p:blipFill>
          <a:blip r:embed="rId1"/>
          <a:stretch/>
        </p:blipFill>
        <p:spPr>
          <a:xfrm>
            <a:off x="2987640" y="2997360"/>
            <a:ext cx="4392720" cy="3782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Online Dergi ve Gazeteler</a:t>
            </a:r>
            <a:br>
              <a:rPr sz="4000"/>
            </a:br>
            <a:endParaRPr b="0" lang="en-US" sz="4000" spc="-1" strike="noStrike">
              <a:solidFill>
                <a:srgbClr val="ffffcc"/>
              </a:solidFill>
              <a:latin typeface="Tahoma"/>
            </a:endParaRPr>
          </a:p>
        </p:txBody>
      </p:sp>
      <p:sp>
        <p:nvSpPr>
          <p:cNvPr id="448" name="PlaceHolder 2"/>
          <p:cNvSpPr>
            <a:spLocks noGrp="1"/>
          </p:cNvSpPr>
          <p:nvPr>
            <p:ph/>
          </p:nvPr>
        </p:nvSpPr>
        <p:spPr>
          <a:xfrm>
            <a:off x="301680" y="1052640"/>
            <a:ext cx="8540640" cy="547200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ünümüzde birçok dergi ve gazete online olarak okurlarına çeşitli konularda bilgi sunmakta ve okuyucuları çeşitli gelişmelerden haberdar etmektedi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gazeteler ve diğer sürekli yayınlar okurlarına eğitim, teknoloji, kültür-sanat, yaşam, spor, sağlık, ekonomi ve daha birçok alandaki haberleri ve son gelişmeleri sunmaktadırlar.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Ülkemizde pek çok yayının kendine ait web sitesinde online olarak günlük haberlere erişmek mümkündü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250920" y="56606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3c145"/>
                </a:solidFill>
                <a:uFillTx/>
                <a:latin typeface="Tahoma"/>
                <a:hlinkClick r:id="rId1"/>
              </a:rPr>
              <a:t>www.kibrisgazetesi.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450" name="" descr=""/>
          <p:cNvPicPr/>
          <p:nvPr/>
        </p:nvPicPr>
        <p:blipFill>
          <a:blip r:embed="rId2"/>
          <a:stretch/>
        </p:blipFill>
        <p:spPr>
          <a:xfrm>
            <a:off x="0" y="-531720"/>
            <a:ext cx="8964720" cy="62658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Arama Motorları</a:t>
            </a:r>
            <a:br>
              <a:rPr sz="4000"/>
            </a:br>
            <a:endParaRPr b="0" lang="en-US" sz="4000" spc="-1" strike="noStrike">
              <a:solidFill>
                <a:srgbClr val="ffffcc"/>
              </a:solidFill>
              <a:latin typeface="Tahoma"/>
            </a:endParaRPr>
          </a:p>
        </p:txBody>
      </p:sp>
      <p:sp>
        <p:nvSpPr>
          <p:cNvPr id="452" name="PlaceHolder 2"/>
          <p:cNvSpPr>
            <a:spLocks noGrp="1"/>
          </p:cNvSpPr>
          <p:nvPr>
            <p:ph/>
          </p:nvPr>
        </p:nvSpPr>
        <p:spPr>
          <a:xfrm>
            <a:off x="324000" y="83628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nternet ortamında ücretsiz olarak hizmet veren çeşitli arama motorları bulunmaktadır. Google ve Yahoo ise en yaygın olarak kullanılan arama motorlarındandır. </a:t>
            </a:r>
            <a:endParaRPr b="0" lang="en-US" sz="3200" spc="-1" strike="noStrike">
              <a:solidFill>
                <a:srgbClr val="ffffff"/>
              </a:solidFill>
              <a:latin typeface="Tahoma"/>
            </a:endParaRPr>
          </a:p>
        </p:txBody>
      </p:sp>
      <p:pic>
        <p:nvPicPr>
          <p:cNvPr id="453" name="" descr=""/>
          <p:cNvPicPr/>
          <p:nvPr/>
        </p:nvPicPr>
        <p:blipFill>
          <a:blip r:embed="rId1"/>
          <a:stretch/>
        </p:blipFill>
        <p:spPr>
          <a:xfrm>
            <a:off x="1403280" y="2981160"/>
            <a:ext cx="6193080" cy="3876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cc"/>
                </a:solidFill>
                <a:latin typeface="Tahoma"/>
              </a:rPr>
              <a:t>Google Scholar</a:t>
            </a:r>
            <a:endParaRPr b="0" lang="en-US" sz="4400" spc="-1" strike="noStrike">
              <a:solidFill>
                <a:srgbClr val="ffffcc"/>
              </a:solidFill>
              <a:latin typeface="Tahoma"/>
            </a:endParaRPr>
          </a:p>
        </p:txBody>
      </p:sp>
      <p:sp>
        <p:nvSpPr>
          <p:cNvPr id="455" name="PlaceHolder 2"/>
          <p:cNvSpPr>
            <a:spLocks noGrp="1"/>
          </p:cNvSpPr>
          <p:nvPr>
            <p:ph/>
          </p:nvPr>
        </p:nvSpPr>
        <p:spPr>
          <a:xfrm>
            <a:off x="324000" y="1341360"/>
            <a:ext cx="8540640" cy="226080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a:t>
            </a:r>
            <a:r>
              <a:rPr b="0" lang="tr-TR" sz="2800" spc="-1" strike="noStrike" u="sng">
                <a:solidFill>
                  <a:srgbClr val="a3c145"/>
                </a:solidFill>
                <a:uFillTx/>
                <a:latin typeface="Tahoma"/>
                <a:hlinkClick r:id="rId1"/>
              </a:rPr>
              <a:t>http://</a:t>
            </a:r>
            <a:r>
              <a:rPr b="0" lang="tr-TR" sz="2800" spc="-1" strike="noStrike" u="sng">
                <a:solidFill>
                  <a:srgbClr val="a3c145"/>
                </a:solidFill>
                <a:uFillTx/>
                <a:latin typeface="Tahoma"/>
                <a:hlinkClick r:id="rId2"/>
              </a:rPr>
              <a:t>scholar</a:t>
            </a:r>
            <a:r>
              <a:rPr b="0" lang="tr-TR" sz="2800" spc="-1" strike="noStrike" u="sng">
                <a:solidFill>
                  <a:srgbClr val="a3c145"/>
                </a:solidFill>
                <a:uFillTx/>
                <a:latin typeface="Tahoma"/>
                <a:hlinkClick r:id="rId3"/>
              </a:rPr>
              <a:t>.</a:t>
            </a:r>
            <a:r>
              <a:rPr b="0" lang="tr-TR" sz="2800" spc="-1" strike="noStrike" u="sng">
                <a:solidFill>
                  <a:srgbClr val="a3c145"/>
                </a:solidFill>
                <a:uFillTx/>
                <a:latin typeface="Tahoma"/>
                <a:hlinkClick r:id="rId4"/>
              </a:rPr>
              <a:t>google</a:t>
            </a:r>
            <a:r>
              <a:rPr b="0" lang="tr-TR" sz="2800" spc="-1" strike="noStrike" u="sng">
                <a:solidFill>
                  <a:srgbClr val="a3c145"/>
                </a:solidFill>
                <a:uFillTx/>
                <a:latin typeface="Tahoma"/>
                <a:hlinkClick r:id="rId5"/>
              </a:rPr>
              <a:t>.com</a:t>
            </a:r>
            <a:r>
              <a:rPr b="1" lang="tr-TR"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limsel araştırma yapmak isteyen veya bilimsel makaleleri kullanarak ödev hazırlamak isteyenler için son derece kullanışlı bir arama hizmetidir.</a:t>
            </a:r>
            <a:endParaRPr b="0" lang="en-US" sz="2800" spc="-1" strike="noStrike">
              <a:solidFill>
                <a:srgbClr val="ffffff"/>
              </a:solidFill>
              <a:latin typeface="Tahoma"/>
            </a:endParaRPr>
          </a:p>
        </p:txBody>
      </p:sp>
      <p:pic>
        <p:nvPicPr>
          <p:cNvPr id="456" name="" descr=""/>
          <p:cNvPicPr/>
          <p:nvPr/>
        </p:nvPicPr>
        <p:blipFill>
          <a:blip r:embed="rId6"/>
          <a:stretch/>
        </p:blipFill>
        <p:spPr>
          <a:xfrm>
            <a:off x="1547640" y="3479760"/>
            <a:ext cx="6409080" cy="31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0" y="981000"/>
            <a:ext cx="9144000" cy="45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ternet ile ilgili Bazı Genel Terimler</a:t>
            </a:r>
            <a:endParaRPr b="0" lang="en-US" sz="4000" spc="-1" strike="noStrike">
              <a:solidFill>
                <a:srgbClr val="ffffcc"/>
              </a:solidFill>
              <a:latin typeface="Tahoma"/>
            </a:endParaRPr>
          </a:p>
        </p:txBody>
      </p:sp>
      <p:sp>
        <p:nvSpPr>
          <p:cNvPr id="3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Yerel ve Geniş Bölge Alan Ağları</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LAN, İngilizce Local Area Network (Yerel Alan Ağı) kelimelerinin kısaltılmasından elde edilen bir terimdir ve aynı bölgede genellikle bir ofis içinde birbirine bağlı bilgisayarların oluşturduğu bir “ağı” ifade eder (İnternet Cafe).</a:t>
            </a:r>
            <a:endParaRPr b="0" lang="en-US" sz="2400" spc="-1" strike="noStrike">
              <a:solidFill>
                <a:srgbClr val="ffffff"/>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ahoma"/>
              </a:rPr>
              <a:t>WAN ise, İngilizce Wide Area Network (Geniş Alan Ağı) kelimelerinin kısaltılmasından oluşmaktadır. LAN'dan farklı olarak WAN dar bir alanda değil, geniş bir alanda bulunan bilgisayarları bir araya toplayan bir ağdır. WAN’ı en iyi açıklayan örnek ise KKTC’ye TTnet tarafından verilen kablolar yardımıyla tüm adaya yayılmasını sağlayan ağ sistemine geniş bölge alan ağını verilebili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WWW Nedir?</a:t>
            </a:r>
            <a:br>
              <a:rPr sz="4000"/>
            </a:br>
            <a:endParaRPr b="0" lang="en-US" sz="40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Kısaca Web (WWW),  İnternet'in en çok kullanılan alanıdı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World Wide Web her biri tek bir anda tarayıcı tarafından hizmete sunulan milyonlarca web sayfasından oluşmuştu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 web sayfası genellikle, metinler, grafikler, sesler ve diğer web sayfalarına bağlantılardan oluşan tek bir HTML dokümanıdır. </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Öğretmen ve öğrencilerin bu dokümanları kullanarak pek çok bilgiye kolay bir şekilde erişmeleri mümkündür. </a:t>
            </a:r>
            <a:endParaRPr b="0" lang="en-US" sz="2800" spc="-1" strike="noStrike">
              <a:solidFill>
                <a:srgbClr val="ffffff"/>
              </a:solidFill>
              <a:latin typeface="Tahoma"/>
            </a:endParaRPr>
          </a:p>
        </p:txBody>
      </p:sp>
      <p:pic>
        <p:nvPicPr>
          <p:cNvPr id="395" name="" descr=""/>
          <p:cNvPicPr/>
          <p:nvPr/>
        </p:nvPicPr>
        <p:blipFill>
          <a:blip r:embed="rId1"/>
          <a:stretch/>
        </p:blipFill>
        <p:spPr>
          <a:xfrm>
            <a:off x="0" y="0"/>
            <a:ext cx="1692360" cy="131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cc"/>
                </a:solidFill>
                <a:latin typeface="Tahoma"/>
              </a:rPr>
              <a:t>Portal </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Portal, her yerden erişilebilen, veritabanına dayalı web siteleri ile dinamik bilgi bankalarından bilgi sunulan, tarayıcı tabanlı, söyleşi odaları, forum alanları, kataloglar, canlı haberler, e-posta vb. birçok özelliği ve etkinliği kapsayan, daha ucuz, hızlı ve güvenli olarak bilgiye, hizmete erişimi ve entegrasyonu sağlayan bir web hizmetidir.</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ahoma"/>
              </a:rPr>
              <a:t>Birçok öğrenci ve öğretmen ihtiyaç duyduğu konuda portallardan yardım alabilmektedi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399" name="" descr=""/>
          <p:cNvPicPr/>
          <p:nvPr/>
        </p:nvPicPr>
        <p:blipFill>
          <a:blip r:embed="rId1"/>
          <a:stretch/>
        </p:blipFill>
        <p:spPr>
          <a:xfrm>
            <a:off x="971640" y="0"/>
            <a:ext cx="6842160" cy="839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SS (ISP) NEDİR? </a:t>
            </a:r>
            <a:br>
              <a:rPr sz="4000"/>
            </a:br>
            <a:endParaRPr b="0" lang="en-US" sz="40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ahoma"/>
              </a:rPr>
              <a:t>İnternet servis sağlayıcısı (İSS) şirketlere ve kişilere internet bağlantısını sağlayan bir kurumdur. İnternet servis sağlayıcısı kısaca “ISS” veya İngilizce'de “ISP” (Internet service provider) olarak bilinmekted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4T11:55:05Z</dcterms:created>
  <dc:creator>USER</dc:creator>
  <dc:description/>
  <dc:language>en-US</dc:language>
  <cp:lastModifiedBy>USER</cp:lastModifiedBy>
  <dcterms:modified xsi:type="dcterms:W3CDTF">2008-10-22T13:21:50Z</dcterms:modified>
  <cp:revision>38</cp:revision>
  <dc:subject/>
  <dc:title>Eğitimde İnternet</dc:title>
</cp:coreProperties>
</file>